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FCAE-2144-44C1-867C-00362F340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1DC2-17AA-441F-8B98-276C9F3B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14AD-F879-4141-AE76-55CFC950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ACD-D7E1-4635-A0D8-C580FB70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A55-014D-47BE-895F-38D8679E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DEF-7B82-4C6B-A3F4-E6779A1C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CFC-6647-4418-8D76-007C5333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9C92-93D9-400F-922C-1D491165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3F5A-6BAA-447A-BF98-E8289F64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5E2F-011B-4FF4-B8AB-1D9C8DAA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ECE-5865-4CD5-A157-D1B74DBE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6C6-820F-40DB-BADE-CE8DCE12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84A5-9805-4C59-9B20-05DC1789F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www.zoofirma.ru//plugins/content/relatedThumbArticles/timthumb.php?src=images/knigi/0994/035.jpg&amp;w=300&amp;h=200&amp;zc=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ОСТАВ И СТРУКТУРА СООБЩЕСТ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8920" y="2276640"/>
            <a:ext cx="50403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Число обитающих в сообществе видов и соотношение их численности определяе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идовую структуру сообществ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идовой состав сообщества определяется рядом факторов: географическое местоположение, особенности климата и рельефа местности, высота над уровнем моря, водный режим, возраст сообщества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46836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ДОВА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РУКТУРА СО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62415" t="24538" r="15295" b="44664"/>
          <a:stretch/>
        </p:blipFill>
        <p:spPr>
          <a:xfrm>
            <a:off x="5292720" y="2205000"/>
            <a:ext cx="3673440" cy="3173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78483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пределенные типы внешнего строения организмов, возникшие как приспособления к условиям местообитания, называю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жизненными формам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бор жизненных форм, их соотношение определяю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рфологическую структур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ообщества, по которой судят о его принадлежности к тому или иному тип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Заголовок 1"/>
          <p:cNvSpPr/>
          <p:nvPr/>
        </p:nvSpPr>
        <p:spPr>
          <a:xfrm>
            <a:off x="46836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РФОЛОГИЧЕСКАЯ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РУКТУРА СО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27_06" descr="http://rusanova.nm.ru/tablica/27_06.jpg"/>
          <p:cNvPicPr/>
          <p:nvPr/>
        </p:nvPicPr>
        <p:blipFill>
          <a:blip r:embed="rId2"/>
          <a:srcRect l="2579" t="26468" r="3208" b="5167"/>
          <a:stretch/>
        </p:blipFill>
        <p:spPr>
          <a:xfrm>
            <a:off x="3795840" y="4132440"/>
            <a:ext cx="5348160" cy="2725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8920" y="2852640"/>
            <a:ext cx="4537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личные жизненные формы определенным образом пространственно обособлены друг от друга, образу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остранственную структур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ообщ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468360" y="189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СТРАНСТВЕННА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РУКТУРА СООБЩ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50799" t="28852" r="23002" b="40351"/>
          <a:stretch/>
        </p:blipFill>
        <p:spPr>
          <a:xfrm>
            <a:off x="4859280" y="2133720"/>
            <a:ext cx="3889440" cy="3506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10:17:08Z</dcterms:created>
  <dc:creator>Катенок</dc:creator>
  <dc:description/>
  <dc:language>en-US</dc:language>
  <cp:lastModifiedBy>Admin</cp:lastModifiedBy>
  <dcterms:modified xsi:type="dcterms:W3CDTF">2013-03-04T16:24:44Z</dcterms:modified>
  <cp:revision>35</cp:revision>
  <dc:subject/>
  <dc:title>Презентация PowerPoint</dc:title>
</cp:coreProperties>
</file>